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97E0-99C7-4126-B3E2-37D25141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745-33F4-43E7-BAED-4810B009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6EF43-DA53-4037-BDD4-F86BBDAA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6405C-E85F-4A89-AFA2-E40CADF9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A2628-94ED-47F2-9C97-1CC45A83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F54A1-F3D4-4918-AD07-42D9E967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B35F0-6B6E-4997-A67A-1C6056A5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FC333-75EC-4D56-BF39-BB7BB56B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554A8-4477-4D3A-B889-A3977AD3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FFDF1-FFD2-409E-8DAF-3E0CA886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24214-DC2F-44CA-A98B-E162618D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F9F6-4E34-43B0-A111-4CBFEDAF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D0C4-E33D-4BE4-91CC-9A879F3B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E0A2-F056-4576-A00C-08A0C3FD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D2C1-89CA-43C1-B5AD-A8F3225E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E7BA-91EF-40F4-BC86-E9C66FE0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B29B-83A4-430E-B023-53724FF2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F1BB-687C-4F6C-A91A-E4FEF1F7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9A6B-12C0-4B30-8365-7EA4DA1C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526B-310D-4EF4-A99E-8F24DE15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F11-C707-45C8-8E6C-0A84BE43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DBFA-50FD-4E90-8BF8-851F825E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18EE-2E59-4758-B8A1-F3304791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FF3F-5933-4A63-967C-9E605048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D536-F066-4715-88FC-4F8CD251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1734-6254-44A4-81CC-3264A41B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E2F22-90EF-4BF7-AD13-623619E9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7B1E0-66BF-43A0-8286-CE051C4E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34134-8D8B-4711-ACAD-5625A650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39A5E-C95E-4700-B59F-184390CA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67585-A371-4026-823A-4B12BDD7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3288-CB7E-43A9-9DA7-795C2B02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A5DF8-AE98-4CE5-B6E1-2AB0A5FA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7207B-1749-432D-BCBD-0C91F62D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18909-A39A-499B-A2E3-5239BC65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08BF3-E2D6-4998-9F10-704C5752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72635-54B0-4672-9D5D-BBB9EC7A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42A7D-997B-47DD-8100-1BB20371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6CA9A-643E-4BE7-9C67-305E8E88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90123-7226-46B3-8022-B568A552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F74A7-41B0-4601-98A8-15FBECF8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91E8F-0E02-4D82-BF12-76446620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9FE2-D11F-4CA8-80B4-AE2DBD74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93F57-834F-417B-82DB-B75BF17F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CC0EA-B0D1-4005-ABB9-1D651E63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5CD75-F94B-40CC-A53F-3C856D76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3A037-6515-4188-B83D-3EDB8CB8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B00B9-4B7E-4BC5-BDC4-F4DA4F63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9EC71-6A3C-4152-9A85-0545FE6A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755C0-8BDB-4208-8B0D-3424BF8E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16663-32B9-4FA5-82AC-E69DD404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99F71-5E83-4839-9314-84BE7A15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A9EF0-6BC3-46DB-99D2-E9B21AA7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44C-DDA2-435E-8372-B6AD02B4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6DF05-5408-4586-8D74-CA413AC9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D226E-2FD7-490E-A226-042C0F1A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AC3AC-2924-4358-86F4-E34FC135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72CA0-3F5F-4298-BD0A-46D773B4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9071F-DF72-4294-B226-2B68F37C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A309C-C159-4408-8AC9-4DDFEF99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002A9-2900-414D-9DE6-AAB0FEFF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EE68A-0501-4145-B27E-BC78DA77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3B177-AFB7-4176-817F-C2311F15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45E70-1CA4-4D4D-95A2-A799A820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275-E592-4606-9065-ACBE9E04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9EF83-2922-4F23-9BB5-1C7202B2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90A94-FF31-422A-A6AD-912FCEDA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CD27B-36C9-4F5E-9FE3-49A87462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D1B87-67A7-4A34-94CA-CE3C18B4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9DD1D-E424-4113-9BE7-3EA650E9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61BCE-7A90-4A06-BEA0-0A1D8C11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DCD29-2342-4537-89A8-7988BD8E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DCE94-99FE-4978-818F-147C3FAE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146AA-FD1E-4FEC-8CDD-59498E7C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0AFB3-53EB-4A53-B754-F32F70A6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DC9F-9F06-4473-B2CE-6BBDB1D9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1D366-6E06-4B5A-A5F0-66FED87D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0EC39-0B75-44E2-80A4-69D58BFF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7002D-67E1-492E-A2B6-B7221965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2D7D8-ADFC-4C45-B499-F98FF3EC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26C9D-5067-44EB-8BC8-2E06158D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38EA1-0CF7-41CD-B8C9-C6C88BCE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18C5E-22B3-4589-B1C6-D883FA39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662D0-C437-47F8-95B0-D5AAF1AB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E5847-A970-4CCE-A8F1-1E75D8EB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388A4-B297-46C8-9F04-37C86CB3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8F2-5889-4A33-A77B-7816F464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FB12E-F38D-4070-8B66-7A8ECCD0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B0909-1512-4D85-96B6-BD1EBC53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61536-8A74-4E69-A1D6-C6035DEF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FAA8C-1E11-49EE-9E11-D505C075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A4BF8-26DF-4609-B756-DDCA1753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A7246-3348-4A99-BBD2-5CFC370D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E8AD0-E2BB-4CCA-89A9-758C398F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FCD2C-9606-4727-AEBD-5972F4C1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39AFC-F8D0-4F44-9306-FD38B023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FD9F8-8E60-496C-A084-F861190B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5AF1-E0C6-40E2-8B0C-A08D5733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D6D01-67B9-4DF9-B4BC-00432130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B224B-FE85-49D1-A354-BD98C8EB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3E6B9-0034-4EBF-A9B6-52E3BB85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C2E39-782C-4B71-B4B8-371B5C2F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FF26B-8C27-4C09-AE94-108070D1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0E2FD-9CF5-4A6C-99DC-AD9841CF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29C8F-BD32-4D0F-AFF0-151A42C6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F7EC4-0374-4E90-BF96-FC379814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CB030-3015-4431-91FB-0EA2B71E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B4EF2-3CAE-481F-90E4-84D55ACB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2065-333D-41E3-87DB-CB260A46F34E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5800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0FE8-654C-4905-A2EF-277FE6423374}" type="slidenum"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12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C787-CC8C-4120-ABBF-F3ADB1131BCC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8"/>
            <p:cNvSpPr/>
            <p:nvPr/>
          </p:nvSpPr>
          <p:spPr>
            <a:xfrm>
              <a:off x="430920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A71C-5006-43CB-918B-06BFA787AD87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4D13-31CE-4B01-BED3-1B0A494BDDD3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15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BFF8-DFB0-4064-B574-986AD78790C5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ACC0-976A-46CD-91B2-1178EF4C5EC4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14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F6BF-2504-46B6-8E35-772C4622B6A9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11"/>
            <p:cNvSpPr/>
            <p:nvPr/>
          </p:nvSpPr>
          <p:spPr>
            <a:xfrm rot="5400000">
              <a:off x="6374880" y="291384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DD3C-FF08-4153-B507-6BBB6E4DFB32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1 Título" descr=""/>
          <p:cNvPicPr/>
          <p:nvPr/>
        </p:nvPicPr>
        <p:blipFill>
          <a:blip r:embed="rId1"/>
          <a:stretch/>
        </p:blipFill>
        <p:spPr>
          <a:xfrm>
            <a:off x="1182600" y="1390680"/>
            <a:ext cx="6778800" cy="2028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Book Antiqua"/>
              </a:rPr>
              <a:t>JESÚS GONZÁLEZ PÉREZ&amp;JULIO VILLALBA MELGUIZO</a:t>
            </a: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2-INSTALACIONES Y MATERIAL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3-RECURSOS ECONÓMIC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3.-PROMOCIÓN Y DIFUSIÓN DEL PROYECTO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4.-FASES DE PUESTA EN MARCHA DEL PROYECTO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5.-DOCUMENTACIÓN Y BIBLIOGRAFIA CONSULTADA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7.-ANEX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85440" y="2209320"/>
            <a:ext cx="77468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La empresa se llamará «NATURALCAMP», destinada a la ocupación del tiempo libre y la amenización de la estancia de los usuarios en los campings de verano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Nos encargaremos de llevar a cabo todas la actividades propuestas gestionar la empresa, adquirir materiales, buscar ayudas económicas y publicidad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1INTRODUC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2-JUSTIFICA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3-OBJETIVOS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4-ANALISIS DEL CONTEX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5-ESTUDIO DEL MERCAD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1.6-DESCRIPCIÓN DEL PROGRAMA DE ACTIVIDADE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-LOS RECURSOS Y MEDIOS NECESARI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1-HUMAN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Jose</dc:creator>
  <dc:description/>
  <dc:language>en-US</dc:language>
  <cp:lastModifiedBy>JGP</cp:lastModifiedBy>
  <dcterms:modified xsi:type="dcterms:W3CDTF">2010-05-11T10:24:26Z</dcterms:modified>
  <cp:revision>12</cp:revision>
  <dc:subject/>
  <dc:title>NATURALCAMP</dc:title>
</cp:coreProperties>
</file>